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DC83-2DC2-458A-BB93-49CEF0D9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B0CB-97D1-40F5-A8A6-1D486EB8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21EB-0A7A-43D1-B644-3BF51B2F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CDF4-BEDD-4ACB-BAB0-6B752369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5DD2-CAED-4779-9B87-26CD522B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024C-A3AD-4817-ACB1-DB07AD0D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F233-3439-4443-AA5E-C8A62E7B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E094-834D-4C8E-AD30-C99AF656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2370-FF01-43D9-9781-A5E1CDB7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D16A-C829-4DB6-A258-01FDB163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66E0-12B9-4353-A482-306CE395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39BD-42FF-4BD6-B37B-D0A1AB1D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6327-F84A-445C-922A-A7385686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DD5C-D025-4AA4-97D9-C99600DC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4916-E6B4-4CA4-B76E-45E984EE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AA78-077A-44ED-91C9-B8AF6C2E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5FDF-F4C2-470F-8A8A-E9DF5870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20E2-BC4F-423F-9FEB-1888107E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DA61-7645-4090-A176-0234CD46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30A1-DB74-4015-BFE4-04A7844D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0870-550A-47DD-9D76-1D72899F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F7AAF-64E4-4206-8F87-68A739CB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E363-2826-4D9B-9EB6-E8246117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95EBB-BCA9-4EA7-9F50-A5E5B719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42AD-D6E7-4B50-8AD8-0B9DBBF17B4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EC6B-3D2E-4AEA-B94C-0D261FE3043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87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82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Кога на ученицит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мъртта Си обяв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то Приятел техен, Т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зе хляб, благослов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70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Очи повдигна, прелом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даде им в ръц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каза: „Яжте всички ви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ен скъпи на сърце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4994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Взема Той чашата тогаз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дигна пак оч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одума с сладкия Си глас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нея пийте вси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4994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Завет нов да направя с вас изпрати Ме О</a:t>
            </a: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ц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мнете смъртния Ми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гда и до конец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4994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. Ти дай, о, Господи преблаг, Приятел наш и Спас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спомним този час ние па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воята смърт за нас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10-09T09:23:37Z</dcterms:modified>
  <cp:revision>222</cp:revision>
  <dc:subject/>
  <dc:title>Slide 1</dc:title>
</cp:coreProperties>
</file>